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5992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B62-A99D-4364-92AD-A9A8B21505AB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BCCA-406B-4F8A-9010-C3062C6C0844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88F-9D39-47C3-859D-B0AAAB822F57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당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이미 점유율이 높아질 대로 높아진 윈도우에 대해 강도 높은 단속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발 후 합의금으로 수많은 돈을 뜯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당시 점유율이 낮았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워드나 익스플로러에 대해서는 그러한 조사 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심지어 익스플로러는 점유율을 높이기 위해 윈도우에 공짜로 끼워 팔기도 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독점 방지법 위반으로 소송당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프트웨어라는 것들이 대부분 사용에 익숙해지면 다른 제품으로 옮겨가기 어려운 특성 있기 때문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많은 회사들이 소프트웨어 점유율을 높이는 데 총력을 다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위해서 오히려 불법복제를 장려하거나 눈감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제공하기 위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QD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라이선스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에 구입하여 수정한 버전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-D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카피당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러에 판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떼돈을 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은 정당한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로 성공을 맞이한 개발자는 이전 개발자들의 노고를 계승하여 돌 하나를 얹은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음 개발자도 그럴 수 있어야 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이 가로막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이루어낸 일을 또다시 알아내기 위해 쓸데없는 노력을 낭비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032D-5594-41E7-B9B4-6C18C44D8F31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E8A-F0AA-4A46-BBF4-83D9779ADFD7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48C-9917-4415-9A97-EA7AF76B83F1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487B-07EB-43F0-BDD7-5CBB03E1AD59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9D8-FDC6-48AD-880B-3243C1BDC9ED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저작자의 허가를 받지 않은 불법 복제를 허용하겠다는 것이 아니란 점에 유의할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유로운 공동체를 복원하겠다는 것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900-8715-4E47-9217-0E68E7900BC5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32C-F376-459E-8453-C5743F1D0C2B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313-F2E6-4ED5-8D48-7B63417251B9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F23-9903-4647-8DC3-F178156B23A4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AEE-6B75-4DEF-B9CE-CA5F5F87973C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028960"/>
                <a:tab algn="l" pos="4057560"/>
                <a:tab algn="l" pos="6086520"/>
                <a:tab algn="l" pos="8115480"/>
                <a:tab algn="l" pos="101440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독점적이고 비밀에 쌓인 소프트웨어는 먼저 싸우기부터 하는 주자들과 도덕적으로 동일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299-5DDF-42E2-B5E0-8138DF5F0585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안성 면에서 탁월하다는 인정 받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011-8A44-4D9B-BFC9-09E6F4A5787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2C0-4DE6-40BF-9C52-ED7E31731992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56C-B2D1-489D-8077-CB1FC69B6EEA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EDEA-D044-4DA3-936D-2CBE92B695F7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리누스 토발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난 매우 게으른 사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런 정책은 자유 소프트웨어에만 해당되는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많은 개발자들은 엄청난 협력을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스 공개를 통한 개발 효율성을 강조하는 일군의 무리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픈 소스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분류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의 사항은 에릭 레이먼드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당과 시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글에서 얘기한 내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389-7158-4E03-B5A1-8963892997EA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게임 회사의 수익모델은 게임방에 게임을 판매하는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프트웨어 개발자들이 다른 종류의 수익모델을 좋아하는지도 잘 모르겠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고를 통한 수익이나 서비스 지원을 통한 수익보다는 제품 판매를 통한 수익이 더 공정하거나 깔끔하다고 생각하는 사람 많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간접자본 역할을 한 오픈 소스 소프트웨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로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P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아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터툴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A613-1D4E-4B3B-9A35-532F44A7840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A686-2D43-4110-9725-F7EB326F64E2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3F3-1CCC-465D-A63B-C98B3153EAAA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 허가 없이 저작물을 입수하거나 복제하거나 배포하거나 개정해서 재배포하는 것 등은 모두 불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 허가를 받으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저작자에게 그에 상응하는 대가를 지불하도록 저작자에게 권리를 준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36E-96AB-42D2-8E90-C5646866C8BF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소프트웨어 소스 공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용 소프트웨어 등장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직까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T&amp;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소스 코드 공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7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라이센스 수수료 인상과 소스코드 접근 제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[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8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업의 확대 및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용 소프트웨어의 산업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[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급부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1EB-9B23-4F4A-B6A4-76C2A0382D88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F99-4501-47BA-875D-F8640CDDFA4B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760-6E06-422B-BAD3-F485008F65EF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한글은 여섯 번 주인 바뀜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불법복제 때문만은 아닐지라도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199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년 한컴의 부도 사태는 불법복제의 심각성을 깨닫게 함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나모는 한 때 시장의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80%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점유하는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SW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들어내면서 승승장구했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하지만 나모의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영광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은 순간에 머물렀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이 회사는 결국 경영악화로 세중여행에 인수됐으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SW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가 아닌 다른 분야 사업에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곁눈질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을 하며 지내야했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이러다 보니 개인 소프트웨어 시장보다는 라이선스 관리가 쉬운 기업 소프트웨어로 사업영역을 돌리거나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아니면 기업에게만 높은 값으로 라이선스 수수료를 청구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또는 소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052-411E-4F77-8304-68EE2FDAEDE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미국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도 수준으로 꽤 낮은 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이찬진 사장은 “지나친 불법복제가 아래아한글을 포기하도록 만들었다”고 말한 바 있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불법복제가 소프트웨어 산업을 죽이고 있다는 얘기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 MS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의 빌 게이츠 회장도 “지적재산권의 보호에 철저한 미국이 아니었다면 자신의 성공은 불가능했을 것”이라고 말하기도 했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8B7-49D0-49C2-8C5B-42D5A7BFF614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7DD-30FD-40D1-863A-8B19458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990-6D1D-40CC-8790-423073A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012-0441-4F8D-9170-D82C1A2E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24C-1E05-47B5-A41E-9D1AB726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EAD-C7B0-41C0-9E28-A1A01C6E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2A9-B625-4CCF-A617-293936D1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845-A5CA-4C90-BA21-7CC8B7E0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29B-A848-455B-988A-4D332A0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895-1617-4D4C-8424-37746A50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FFC-71F5-40BA-988E-2815DD6B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B2F-B5A5-4276-A476-3F548AA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199-AF76-4B96-9D64-84F4172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32C3-CC5A-4F7E-A95B-BFC83B033177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nn.nate.com/video/21763890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lryung.tistory.com/13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어떻게 해야 발전할까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차드 스톨만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vs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빌 게이츠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2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정동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9" name="Picture 2" descr="http://postfiles7.naver.net/20091004_22/bsadreamalba_1254652753445yryoh_jpg/tal10_bsadreamalba.jpg?type=w2"/>
          <p:cNvPicPr/>
          <p:nvPr/>
        </p:nvPicPr>
        <p:blipFill>
          <a:blip r:embed="rId1"/>
          <a:stretch/>
        </p:blipFill>
        <p:spPr>
          <a:xfrm>
            <a:off x="0" y="189000"/>
            <a:ext cx="9155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불법 복제만 잡으면 오케이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독점을 통한 과도한 수익은 문제 없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과도한 저작권 보호가 경쟁자의 씨를 말림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불법복제가 이렇게 없어지지 않는 이유는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너무나 쉽기 때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!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혹시 복제를 막는 것이 오히려 부자연스러운 것은 아닐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자유다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4" name="Picture 2" descr="http://upload.wikimedia.org/wikipedia/commons/thumb/2/22/Heckert_GNU_white.svg/250px-Heckert_GNU_white.svg.png"/>
          <p:cNvPicPr/>
          <p:nvPr/>
        </p:nvPicPr>
        <p:blipFill>
          <a:blip r:embed="rId1"/>
          <a:stretch/>
        </p:blipFill>
        <p:spPr>
          <a:xfrm>
            <a:off x="755640" y="1844640"/>
            <a:ext cx="38876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7" name="Picture 2" descr="http://medias.ubuntu-lyon.org/faq/ubuntu/gnu-linux.png"/>
          <p:cNvPicPr/>
          <p:nvPr/>
        </p:nvPicPr>
        <p:blipFill>
          <a:blip r:embed="rId1"/>
          <a:stretch/>
        </p:blipFill>
        <p:spPr>
          <a:xfrm>
            <a:off x="1692360" y="-19080"/>
            <a:ext cx="540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GNU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GNU is Not Unix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유닉스와 호환되는 자유 소프트웨어 시스템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자유 소프트웨어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무료 라이선스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+ 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구속되지 않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목적에 상관없이 프로그램을 실행시킬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필요에 따라서 프로그램을 개작할 수 있는 자유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실행 파일뿐 아니라 소스코드가 함께 공개되어야 함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무료 또는 유료로 프로그램을 재배포할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개작된 프로그램의 이익을 공동체 전체가 얻을 수 있도록 이를 배포할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자유의 제한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를 누군가가 수정하더라도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것을 독점 소프트웨어로 소유할 자유는 없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즉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의 수정본 역시 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로 남아야 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GNU GPL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과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Copyleft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 General Public Lice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 라이선스로 배포된 저작물은 누구에게나 사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재배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이 허용되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된 저작물 역시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 GPL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로 배포되어야 한다는 구속력 가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애칭으로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opyleft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라는 말을 얻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무엇이 이득인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라이선스 비용의 절약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불필요한 노력의 중복을 줄이고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이렇게 절약된 노력은 기술 개선에 사용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누구든지 시스템의 문제를 분석할 수 있고</a:t>
            </a:r>
            <a:br>
              <a:rPr sz="2800"/>
            </a:b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문제를 해결하기 위한 수정을 가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양질의 소프트웨어 교육 제공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소프트웨어 소유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사용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자격 부여에 관한 소모적인 문제 사라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사용료 체크를 위한 감시 비용 사라짐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691920"/>
            <a:ext cx="77724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막대한 비용을 들여 공기를 생산하는 우주 정거장의 예를 생각한다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러한 경우 공기의 요금을 리터 단위로 지불하는 것은 합당할 것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러나 호흡하는 공기의 양을 측정하기 위해서 계측기가 달린 방독면을 밤낮으로 쓰고 있어야 한다면 그런 방식은 지불 능력에 관계없이 타당한 것이 아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또한 마스크를 벗고 있는지를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V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카메라가 언제 어디서나 항상 감시하고 있다면 이또한 옳지 않은 일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따라서 이보다는 사람들에게 일정한 인두세를 부과하고 마스크를 벗어던지는 것이 현명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” -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차드 스톨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&lt;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언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프로그래머는 어떻게 보상을 받는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회적 존경이나 명성과 같은 비금전적인 보상을 받고 있으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창조적 작업은 이미 그 자체가 자신에게 흥미와 보상을 주는 것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인에 대한 최상의 보상을 위해 전체의 창의성을 저하시키는 것은 정당하지 못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익성은 떨어지겠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 소유를 통하지 않고서도 여전히 프로그래밍으로 돈을 벌 방법이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익 모델은 무궁무진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부 또는 세금을 통한 방법도 가능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cfile24.uf.tistory.com/image/202630464DB0695E0711CF"/>
          <p:cNvPicPr/>
          <p:nvPr/>
        </p:nvPicPr>
        <p:blipFill>
          <a:blip r:embed="rId1"/>
          <a:srcRect l="12196" t="0" r="11523" b="0"/>
          <a:stretch/>
        </p:blipFill>
        <p:spPr>
          <a:xfrm>
            <a:off x="826920" y="2416320"/>
            <a:ext cx="5905800" cy="4181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두 명의 해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ann.nate.com/video/2176389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경쟁과 금전적 특혜 없는 발전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주자들이 빨리 달리기 위해 경쟁하지 않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다른 주자를 공격하는 전략을 사용한다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회적 피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금전적 인센티브 없이도 명예와 같은 보상을 위해 수많은 프로그래머들이 코드 수정에 참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증명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눅스의 엄청난 성공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99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공개된 이후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엄청난 속도로 발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bloter.net/files/2011/08/linux_thenandnow-1-500x293.jpg"/>
          <p:cNvPicPr/>
          <p:nvPr/>
        </p:nvPicPr>
        <p:blipFill>
          <a:blip r:embed="rId1"/>
          <a:stretch/>
        </p:blipFill>
        <p:spPr>
          <a:xfrm>
            <a:off x="826920" y="2492280"/>
            <a:ext cx="63374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6" name="Picture 2" descr="http://www.bloter.net/files/2011/08/linux_thenandnow-2-500x254.jpg"/>
          <p:cNvPicPr/>
          <p:nvPr/>
        </p:nvPicPr>
        <p:blipFill>
          <a:blip r:embed="rId1"/>
          <a:stretch/>
        </p:blipFill>
        <p:spPr>
          <a:xfrm>
            <a:off x="250920" y="1052640"/>
            <a:ext cx="8505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9" name="Picture 2" descr="http://www.bloter.net/files/2011/08/linux_thenandnow-3-500x243.jpg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2" name="Picture 2" descr="http://xbmc-korea.com/xe/files/attach/images/76/840/023/android-logo-white.png"/>
          <p:cNvPicPr/>
          <p:nvPr/>
        </p:nvPicPr>
        <p:blipFill>
          <a:blip r:embed="rId1"/>
          <a:stretch/>
        </p:blipFill>
        <p:spPr>
          <a:xfrm>
            <a:off x="324000" y="1989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volunteeringsolutions.com/userfiles/logo_facebook.jpg"/>
          <p:cNvPicPr/>
          <p:nvPr/>
        </p:nvPicPr>
        <p:blipFill>
          <a:blip r:embed="rId2"/>
          <a:stretch/>
        </p:blipFill>
        <p:spPr>
          <a:xfrm>
            <a:off x="2916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sociallink.kr/wp-content/uploads/2010/02/twitter.jpg"/>
          <p:cNvPicPr/>
          <p:nvPr/>
        </p:nvPicPr>
        <p:blipFill>
          <a:blip r:embed="rId3"/>
          <a:stretch/>
        </p:blipFill>
        <p:spPr>
          <a:xfrm>
            <a:off x="5219640" y="1844640"/>
            <a:ext cx="3619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눅스의 발전 메커니즘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핵심개발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고급 사용자 그룹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공동개발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스를 이해하는 사용자들이 공동개발자가 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빨리 자주 발표하는 정책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왕성한 피드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안정 버전과 최신 베타 버전의 이원 정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의 법칙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보고 있는 눈이 충분히 많으면 찾지 못할 버그는 없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몇 가지 주의할 점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 시스템의 개발자들은 대부분 다른 소프트웨어 회사나 대학에 소속되어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프트웨어를 이용한 다양한 수익모델이 등장하긴 했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여전히 대표적인 수익모델은 제품과 기술지원에 대한 판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는 컴퓨터 문외한에게 분명 어려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럼에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를 비롯한 각종 자유 소프트웨어들은 사회 간접 자본의 역할을 하고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읽을거리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 토발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언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 토발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프로젝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에릭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레이먼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성당과 시장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저작물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5" name="Picture 2" descr="http://www.youtu.kr/files/attach/images/202/513/056/4e5de4458af86ef555664d641b67dd37.png"/>
          <p:cNvPicPr/>
          <p:nvPr/>
        </p:nvPicPr>
        <p:blipFill>
          <a:blip r:embed="rId1"/>
          <a:srcRect l="0" t="0" r="46742" b="16138"/>
          <a:stretch/>
        </p:blipFill>
        <p:spPr>
          <a:xfrm>
            <a:off x="755640" y="1773360"/>
            <a:ext cx="352908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postfiles3.naver.net/20110907_226/hi_calt_1315382401604AsvCB_JPEG/%C3%A5_1_1.JPG?type=w2"/>
          <p:cNvPicPr/>
          <p:nvPr/>
        </p:nvPicPr>
        <p:blipFill>
          <a:blip r:embed="rId2"/>
          <a:stretch/>
        </p:blipFill>
        <p:spPr>
          <a:xfrm>
            <a:off x="4500720" y="1916280"/>
            <a:ext cx="4287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저작권과 라이선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자는 자신의 저작물의 사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복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배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 등을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허가하거나 금지할 수 있는 배타적인 권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즉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저작권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(copyright)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을 가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c00000"/>
                </a:solidFill>
                <a:latin typeface="Arial"/>
              </a:rPr>
              <a:t>예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) Copyright © DongWook Jung. </a:t>
            </a:r>
            <a:r>
              <a:rPr b="0" lang="ko-KR" sz="2300" spc="-1" strike="noStrike">
                <a:solidFill>
                  <a:srgbClr val="c00000"/>
                </a:solidFill>
                <a:latin typeface="Arial"/>
              </a:rPr>
              <a:t>무단 전재 및 재배포 금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 권리를 통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자는 저작물에 대한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사용허가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(license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수료로 이익을 창출할 수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산업이다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1" name="Picture 2" descr="http://seeker401.files.wordpress.com/2011/07/microsoft.jpg"/>
          <p:cNvPicPr/>
          <p:nvPr/>
        </p:nvPicPr>
        <p:blipFill>
          <a:blip r:embed="rId1"/>
          <a:stretch/>
        </p:blipFill>
        <p:spPr>
          <a:xfrm>
            <a:off x="826920" y="177336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빌 게이츠의 공개 서한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(1976)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27280" y="1712880"/>
            <a:ext cx="40669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ulryung.tistory.com/1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대부분의 사람들이 소프트웨어를 무단 복제해 사용하고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러한 도둑질이 소프트웨어 개발 의욕을 꺾고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사용자 삽입 이미지"/>
          <p:cNvPicPr/>
          <p:nvPr/>
        </p:nvPicPr>
        <p:blipFill>
          <a:blip r:embed="rId2"/>
          <a:stretch/>
        </p:blipFill>
        <p:spPr>
          <a:xfrm>
            <a:off x="611280" y="1684440"/>
            <a:ext cx="36734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불법 복제와의 싸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법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 침해에 대한 처벌과 감시 강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술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용 및 복제 방지 기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도입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암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락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도덕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에 대한 인식 강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상업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하드웨어 업체와의 제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cfile22.uf.tistory.com/image/151C85584DCBA8EF0E4426"/>
          <p:cNvPicPr/>
          <p:nvPr/>
        </p:nvPicPr>
        <p:blipFill>
          <a:blip r:embed="rId1"/>
          <a:stretch/>
        </p:blipFill>
        <p:spPr>
          <a:xfrm>
            <a:off x="2843280" y="383364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높은 점유율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, but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사업 실패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0" name="Picture 4" descr="http://www.bloter.net/files/2009/12/h2010_logo.jpg"/>
          <p:cNvPicPr/>
          <p:nvPr/>
        </p:nvPicPr>
        <p:blipFill>
          <a:blip r:embed="rId1"/>
          <a:stretch/>
        </p:blipFill>
        <p:spPr>
          <a:xfrm>
            <a:off x="611280" y="1773360"/>
            <a:ext cx="3543120" cy="24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kdbimg.infomaster.co.kr/kshdavid_MTEuanBnXzEyNDE3MzQzNzc="/>
          <p:cNvPicPr/>
          <p:nvPr/>
        </p:nvPicPr>
        <p:blipFill>
          <a:blip r:embed="rId2"/>
          <a:stretch/>
        </p:blipFill>
        <p:spPr>
          <a:xfrm>
            <a:off x="4381560" y="1704960"/>
            <a:ext cx="2857320" cy="309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rcRect l="20297" t="60049" r="1447" b="4907"/>
          <a:stretch/>
        </p:blipFill>
        <p:spPr>
          <a:xfrm>
            <a:off x="190440" y="4626000"/>
            <a:ext cx="8953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5" name="Picture 2" descr="http://www.softgate.co.kr/img/img_main/notice_20080324_04.gif"/>
          <p:cNvPicPr/>
          <p:nvPr/>
        </p:nvPicPr>
        <p:blipFill>
          <a:blip r:embed="rId1"/>
          <a:stretch/>
        </p:blipFill>
        <p:spPr>
          <a:xfrm>
            <a:off x="468360" y="4653000"/>
            <a:ext cx="8675640" cy="16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news.hankyung.com/nas_photo/200906/2009062836101_2009062825891.jpg"/>
          <p:cNvPicPr/>
          <p:nvPr/>
        </p:nvPicPr>
        <p:blipFill>
          <a:blip r:embed="rId2"/>
          <a:stretch/>
        </p:blipFill>
        <p:spPr>
          <a:xfrm>
            <a:off x="971640" y="549360"/>
            <a:ext cx="38163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2-06T15:49:12Z</dcterms:modified>
  <cp:revision>26</cp:revision>
  <dc:subject/>
  <dc:title>컴퓨터는 어떻게  덧셈, 뺄셈을 할까?</dc:title>
</cp:coreProperties>
</file>